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55B360-EB05-4B3F-88B1-F2FF4FD962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A543F9-300F-46C8-9D35-796309B6B5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FC875D-331E-4C8E-8C1A-5F1332C2DC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F6772E-AB15-4BD7-BD9F-1C3C0C0DDB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A450AB-DEC9-41B0-9F03-DD60B5818A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6A2F07-978A-42C9-B39E-9E35B89A86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C9D7A1-2876-4570-A39C-AA4732CFCE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E597C8-31A7-4B91-A817-FF07D6611F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7DAE64-5A04-4FBC-9FC4-B118CD539D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C27719-6751-4010-8894-868C6F8043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076CDB-F10C-441F-B9F9-90E4EAF87E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201644-05F2-4D6F-8D7C-DD99C65FD7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30FC46-6330-4325-BAD1-E2B4EA326F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1940AD-E165-44A2-9CC9-33D0DD4650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96442C-2302-45C9-9DC0-6E94CE86A9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57FB91-A7E0-4B54-B949-90C76811FD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7DD0BB-DBDA-41E8-9625-9AEF3BDBA2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92F7B1-15F8-49A5-87ED-AC922D6C4E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FB837A-148D-4DA4-AF00-8D08EB229B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845307-3F2B-42FD-A6CB-57F87BF790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230B56-8984-4D5E-8F9F-CF5D2132F3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3EE27D-EEAA-4C34-AC2A-E14DD73CDE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D7F20A-3837-43A5-8E34-30976EC039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DC9654-E04D-4DBB-8CBC-6F066DA687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1788D-E229-45D6-BAE8-5711E2B054E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88B1D-3701-428D-A9B6-531F6794350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305F4F3-83E5-4513-8CE8-C45B2500EAA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AC0989C-D04C-415B-8FA8-2057F6E9C0D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C0B8CA-7345-42D9-BD19-9732BECD607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D71FA1-9752-4345-A608-12A7330C835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7C25DD-FF80-4815-A55D-585AF5E90F4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5A1A5C-80E4-47E3-8714-A050BBEE4F0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CEBF81-3C4E-4454-BAC5-38C27B3DD82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AF4BE8-863A-4BCD-BFA8-AA57340F9CEC}"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250078-F04B-4ADC-937B-A8B48F895E73}"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434667-1EC7-41FF-A1FD-8E797DC981A2}"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C32AEA-526A-43E4-8577-5BAA1EDC830B}"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83D41E-C889-4548-923B-8DBC36FF5470}"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5EA3B6-82AE-45A6-B8B6-B3D1C4F8311F}"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D53A7D-1856-477A-8652-FBFDCADE1353}"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D87F65-4670-42DD-962F-193C1749BB35}"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A333E0-5588-4372-AB9C-16A849B88360}"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96C155-B813-4410-80F4-32217C1F8849}"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AA4692-6984-40FD-A554-8DDE40EED992}"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03BF06-5BB0-48E5-88A8-E0D2371720C7}"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B86F00-17A5-4139-9A9A-96BAD245962C}"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C0E136-1D67-4E99-988C-18645ADA89F4}"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F2BC72-E806-497D-8236-1B34A9779484}"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70C095-2D77-4789-AB56-0CE08340CA4A}"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086587-7F5D-4BDE-8E0E-046E7FE8F353}"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76B1C2-4F2C-44BF-B4F1-01A3E611B276}"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DD612B-53EA-4170-AAA5-08BC589C16D0}"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97D1F6-03CC-4BED-9564-E9A082797D3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C9C2B55-F86F-4492-92BE-517FA56A2E8F}"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659092-E142-41D8-A2E4-434C538C0BB8}"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6D45C1-DF57-4DB2-A4E8-95C66DD4F5CD}"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92CE4E-F6D2-4F61-9890-B6F35019C4B8}"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F9FD19-A018-4F18-8499-0134912F1830}"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2D12FE-E1E3-4564-A4E7-EF6A4CA5DB68}"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E85B65-931F-412A-9DCE-FA7B0D8E91AD}"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9748D0-CB66-40F9-AB2F-5049DD74AF98}"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E7B7AE-8231-4CAA-937F-997B4FA18163}"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098FFD-2102-4619-9B5D-A9A9B0664650}"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C793C4-4724-4B8E-A26B-25121D50672D}"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9AFE6E-437E-4EA5-9FE4-5F53605E9908}"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A8CD63-F1C9-4558-A192-3B93218EB791}"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87F8B5-E9EC-4852-9FA4-5CD8676DC3DC}"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93F92A-66DD-48BF-B241-F2563AD69CD3}"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A38CB9-A303-4822-81C0-998635F3E223}"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4A63E1-C51D-49E2-B582-FA29409C3B66}"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7DB724-47CD-438F-8AFA-BF45D31B092E}"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42D6C1-6068-4389-BF4F-ECD42E722B5F}"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9571D2-ABF9-4A82-9C5A-77EE74BFC945}"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31D1BF-66E3-4F58-8BA1-ECCBCAD2C4CD}"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722ED94-74C1-4ADB-9997-4825B192ABAB}"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910DE3-F522-4A76-82F3-1793E8E751FD}"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C6895B-457A-4846-AB90-62A06481B289}"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6863858-FB9B-434A-AD88-F75774AB307A}"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F14434-5544-44FD-8FC3-F905FF595C28}"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631C67-293E-445F-8A44-EB2CC9293FE1}"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6227D3-4742-4340-924C-A1487D9D7844}"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011582-F41C-4C16-BB41-A86C048E2A7F}"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E5F458-EFAB-4E6D-AB6B-EF6E98C68824}"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EB1E23-6669-49C9-98E4-137BE3969746}"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436949-9E94-4A01-B416-2F288667DE5A}"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787B171-38C7-4B34-B7EB-DE63F10B36C5}"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E4FDD2-C4F5-4615-A5AB-7A203FFE1727}"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6A0B6D-D086-4C9F-9AB6-C65108B1F2D8}"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48286D-727A-40CC-93C3-EFB8F0A00D0D}"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1E9CFA-10BB-4426-B26A-2EEE6AE53913}"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A4A07D-3999-4B19-B4DF-DC8C06E9B601}"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E5C9C32-76C5-4645-AA37-5708CB953FE8}"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2A0AA1-AB3F-4156-AF62-8BB351066319}"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95F62C-7F2E-463D-B624-532C3D5E894E}"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D5D11F-CCEC-431F-85F2-76FFF4767732}"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40F234-F134-4715-9FCF-E67E5479B42C}"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03B66AB-5B33-4716-8D4A-AE14F9920C1B}"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BBFA72-200F-4FA5-B0CE-729F228189D4}"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49877D-2C98-4F34-A97F-7AB480394D9D}"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05B4BA-A0A1-41CE-A39C-DDCC468EBC7A}"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A0D949-E1CB-4EA0-A374-CDD7566D8B65}"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EB4365-6F30-41A2-95E2-006B25D829E9}"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AB7032-9E8E-4767-BB4F-D26D84B84052}"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AC21698-3151-4782-9E2E-0DE0CC92F299}"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CDDA94-CC4E-4BD1-AF6A-D5A6915677DB}"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C08B75-09B0-47D5-8E78-2606B0F7F948}"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7784CD-9B43-49E0-B561-EEAC8136DE64}"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468504A-C078-45C5-90AB-8C2568931571}"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E43629-2590-46F2-B3DC-F95BF9CCC731}"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09D58C1-3BE6-432D-89A7-B73628CF98E2}"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0D2149-5811-45C6-8B1E-0E03A3087627}"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F8CB7B-F57A-44E7-8ECC-8E6D7F3F1D9F}"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E2166B-B5D0-45F4-9ACC-3399A682C6B1}"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B39BCC-E734-4447-8CBB-7E2B8D03A8AA}"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8B12FB-1DC5-49C4-AC9A-8D0459878A42}"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761E64-CE82-41FA-9524-D05464C5B3C8}"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FBC51E-F936-439F-AEB4-28A8B8F227CC}"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5E31D9-7325-4B6E-9825-75DE94CC22A4}"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017637-F213-439C-9615-A3623A57DF4C}"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7FCCF4-764A-4944-8567-41CC3553E174}"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20228A-024B-4908-B53F-12ADFA7D5994}"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0415F6-D6D4-4397-A474-760F17D44FBC}"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21BDFF-3685-438A-BF08-5D2AF1C82B2D}"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42C867-708E-4F9F-A2DA-3765DB604499}"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2C89A9-BF5B-478E-9D21-829EF0F1B783}"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75B892B-B3CA-4D1F-B4EA-D6FC1B720EBE}"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30DA42-5BE7-432D-8552-A03B69EDC9AA}"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0D3BBF-7CB6-4C80-85F8-336CB25204D9}"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14CD45-D6F5-4558-BA98-1AB4184C0A23}"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458B8F-04E9-44AF-89C4-D142BCFAA546}"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2DF346-29F3-490F-8F33-A563C12D1ADD}"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F788C7-5432-438A-B8F9-134FA74DF290}"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FCB0CD-32CC-4E3B-B089-71CF060FB159}"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6ABE45-1F80-4402-8A74-C1376B58C05E}"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2BF6FD-B58D-4401-95E0-43A1E60B3714}"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2AEDCA-A70A-4C80-B47F-8F4427C801CA}"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F7A922-3727-4236-9DF4-A764D6C43E67}"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1E0A31-1E75-4102-BCEB-3B331D1626B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83FBCB-28C1-4DEB-9A36-7D36C1498882}"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59F8E0-47CB-427C-AB21-7A5ADB626E7F}"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12969F-8C98-43AE-A3CC-34FA280D4205}"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1C5D11-8F75-45C1-BC24-7C909986557B}"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92607D-4ADD-492D-B64C-F204293E269E}"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FC29FB-A2F6-4A46-B5DB-0E993408C7D9}"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EE03A4-12E4-49BD-90FC-F3A97BC14968}"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C3C702-460C-478C-9E8B-8BB4351DD98A}"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610959-3F38-4D28-90F1-551835B372CF}"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497C6B-1529-40DE-83F1-7F134DB13F1E}"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AC8454-DD6E-476D-8A1F-7B8E2EEFC5CB}"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CCE714-A637-44F2-85AE-AD93AAA896F5}"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A6177F-0E73-4CA6-B789-BC5C221D01D5}"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2A9885-B92E-422E-93A9-5E7922BD8004}"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4D8426-6744-46E1-9829-121CB1D44A63}"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E3C1E41-8F6E-4AB3-8BF4-5BE771C00929}"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81EF6A-BAE8-45B8-A436-1AE08F512DC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9253E8-EA2D-499B-BF05-5B99E417ECF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7BBC69-9F21-49CE-A5AF-FF2F0928039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8B4175-F2E1-4AA5-AC8F-408E6BD1366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BC528F-4348-4516-90C4-D0A31CE45F6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5D9268-E665-47A2-A065-DC22FDB133A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46CCDE4-A6EE-40A4-A9C6-48BA8F8E6F4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47A75B-50B7-4AB0-9381-0B0795EC878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1485A1-BBE2-425A-B498-92EA962A828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4B7190-28E2-427B-AE55-A54F9D78FA6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A267AA-E471-4DD2-B4E3-5794CAE60E1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2D91E5-97FF-491D-A096-F38E7385E1F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63F101-4323-49A0-A471-63549EDCD9F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46796A-C155-49BA-9427-8068F77F692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04BCBA-DA88-463C-843B-FD86A890C53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F23BF8-1E4A-4E36-880E-1F04C39500E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EC1E72-3724-48CD-916C-3C0768142B5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76E3F2-94BC-4CB3-AD07-717054805E5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41E84B-95F2-4404-822C-A59C79DD7DE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24C088-D321-4234-869E-580F019E280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750366-4600-4DC0-B17D-B0C76012EDB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C3DF7D-CC65-4CA3-9298-4885F089B6A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096AC4-536D-411E-9F10-EAA15EFFC06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6112BB-5BD8-4E65-B2F8-E2A424D453E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2D5639-5B0F-401A-8859-19E96A9FA2B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23AF60-E458-4ABA-88EC-51AD93B2C33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E5A7F5-FAA9-40F7-AD26-8F383E90B74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E95E62-B1C6-4BA8-9084-E0A978513E8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1038E8-0875-4F02-A8A1-BCAD5D5631F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6B3471-C553-4C7E-8A5B-DEE51ACD6CE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249C86-78F5-4C53-99D9-EADBB9FE215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4DBB6C-7CCB-4895-BCDE-B27EB331C29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26F828-F12C-4643-B736-B626889D09C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D10052-5248-4376-A02A-E4D8C77F2EA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266FD5-7E12-4B7A-A23E-4BA3132E561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2E7065-6303-4014-9B7A-99A63AC9828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83EE20-FF22-400F-9AEC-868CAFB7C95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626DB7-1D8D-4054-8B51-E2B9FF5420A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EC4F45-2F00-41B3-9956-B38CE50DFB9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F87A30-E6FC-43C7-8C0C-84ED18EDB96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A8BAF6-1A4C-46C1-870E-2A64AB251B3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B00559-FF5B-4145-889E-F6B8718F5F8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0005F7-7E25-425D-8A39-D9D2D47F544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F6503F-D493-43DA-BB52-8A8C7973D57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6FF900-0169-4612-96B9-77392A50022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758653-CE28-4624-9FE1-000E75F86EF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46C53F-6BF9-48CE-905A-281086103DE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99C386B-9EF9-48A1-A11B-519E98661FB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61C1B6-43A5-443C-834E-30D9F5D88FE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59E2C6-DA51-4540-ACC7-67AB8AA070D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961782-9E67-4376-B8C2-76F9DD9BB38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B35BAB-0F91-4AC8-8B24-233A2D331DF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4E1157-BA91-4D40-9BC5-1B9BC21AC21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C542CA-610A-4698-975A-C63995E8D9B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22E129-D94C-471E-95F1-B90114EDDA1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A02892-5386-4B5E-83F1-26B5FDB5445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2E197FF-8914-4575-BA73-78ABEC94A59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563A16-0196-40F0-999F-F1044380324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477062-1820-4E6C-8416-788BA53BED3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EE80E6-AD32-491C-B7FC-F79C1F5F718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1E6209-BCD1-40AC-A4C8-960B56391ED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912ECA-1A3F-4A2A-A71E-208A47C3049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FE2176-1BCF-4EAF-8379-E4E4B1652A8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0694AD-8B31-426A-9214-2C771488021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475F40-7D01-45E7-844D-636961138C4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39FA98-F362-459F-AC5E-805C3F18F8E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132245-8104-4B06-92FF-5B348D17C43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86F78C-E579-41E6-9664-CDFCEF36C26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2C3760-F781-479C-A457-FE7DF59FDE7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89FF6F-7240-41D9-8794-C19E999E534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B201FF-F5B4-467C-9253-86848FB5EEE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0B22F81-31C2-476E-BCA8-C228596FE3C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F16F5F-BD5D-4CA2-A33C-A8CFEDF630B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9B3643-BA05-4306-B22E-86DF66D867D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8271CC-D072-4511-97FF-A807A300D68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8F032E-2B1D-4A8D-AB4F-CB65E377DB8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C1C547-645F-419C-80EB-BBE2959C138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D931CE-C0E4-4DBA-82CA-7DBA6CAD8FC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4C8A2F-824A-4CC7-877D-B869BF2C842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2F2E88-767A-4482-A282-3EAC947F080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5F7428-A7BA-447A-B999-F437CE576F0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8F88B1-5F4A-421F-86B3-69C0A24A746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6D0F87-C468-4FE2-A224-763844D4E1D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49FD1B-AB7A-40FE-9880-C856BF849AE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40C94A-CEDB-4ACA-B3F5-158EBCC56F7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