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386067"/>
        <c:axId val="34122969"/>
      </c:barChart>
      <c:catAx>
        <c:axId val="803860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122969"/>
        <c:crosses val="autoZero"/>
        <c:auto val="1"/>
        <c:lblAlgn val="ctr"/>
        <c:lblOffset val="100"/>
        <c:noMultiLvlLbl val="0"/>
      </c:catAx>
      <c:valAx>
        <c:axId val="341229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3860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5CF7-879A-4683-A7CD-EEA3C3D44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D864-A4DE-43B3-A58E-505BC8147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0BB2-D30E-4B85-9848-10ABB80AE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4B65-11E0-427E-AAFA-79178F04F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6F2B-CC91-412A-9CB3-D94160A81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CF5A-6ED7-4AEB-A2A2-A06DE7F94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9761-C437-4ECE-A483-5D53C9BD1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09BB-FDC1-41AD-A869-CA71CC4A9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F19D-1EE4-4FEF-8A58-948EDDA87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21F5-C5DB-44D7-89E5-5F9FEEEB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6207-F3AF-4DC0-A0E9-220C30F5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2F3C-2E99-404B-BF98-27D21847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DE8CFD-006E-48B0-847B-88B01BF7DE6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