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93874"/>
        <c:axId val="49094903"/>
      </c:barChart>
      <c:catAx>
        <c:axId val="86993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94903"/>
        <c:crosses val="autoZero"/>
        <c:auto val="1"/>
        <c:lblAlgn val="ctr"/>
        <c:lblOffset val="100"/>
        <c:noMultiLvlLbl val="0"/>
      </c:catAx>
      <c:valAx>
        <c:axId val="49094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3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842-304A-4C35-8F81-E0C8D38C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AF0-B567-436D-9674-4385FB82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49D-9AE7-4039-8421-9B6BA2DE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BB7-A4E2-438A-BC4D-BDE19CDD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038-9EA8-4FD6-8974-47124D85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2EB-9B4A-4CB8-9933-C0E9269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ED3-F834-4E33-93C1-8740AC3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9A3-D4B7-419B-A597-E98D53D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CE7-1B1E-4261-933F-2142D71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4A2-12BE-4CEB-AC4D-9192F55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D48-742F-48D8-8326-23B1923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C02-AB7F-4602-BB8D-ADDBB24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2EFC5-7614-4E4D-A813-8A1A52F37A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