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56048"/>
        <c:axId val="56368576"/>
      </c:barChart>
      <c:catAx>
        <c:axId val="63656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68576"/>
        <c:crosses val="autoZero"/>
        <c:auto val="1"/>
        <c:lblAlgn val="ctr"/>
        <c:lblOffset val="100"/>
        <c:noMultiLvlLbl val="0"/>
      </c:catAx>
      <c:valAx>
        <c:axId val="563685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56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602-1D5E-460D-8C1B-6077A958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A17C-7981-482C-96DF-7B5DD9A1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0431-BC84-4B20-957F-40FF4D31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B3E-D57B-4CFE-B479-82C2169B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5CD-4B67-4B79-854B-ECEF2678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1217-FA68-4201-8D5C-F96D0449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0D0C-0DD4-4799-8D23-F716C1D6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ED6-D579-4B8F-9768-B60CF90F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7AF-ABDA-49FD-96FC-7404E6E5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5AC-B119-4B12-BAE4-CB885592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4E6-6322-46E6-8BCD-64D8F7F3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52F-A28D-48DF-933E-5EE4AF70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9B85F-A230-4757-9C57-2EC17E43D0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