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96593"/>
        <c:axId val="83992044"/>
      </c:barChart>
      <c:catAx>
        <c:axId val="72996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92044"/>
        <c:crosses val="autoZero"/>
        <c:auto val="1"/>
        <c:lblAlgn val="ctr"/>
        <c:lblOffset val="100"/>
        <c:noMultiLvlLbl val="0"/>
      </c:catAx>
      <c:valAx>
        <c:axId val="83992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96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92A-F9BC-4203-B39B-4966F046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D4C-2D2A-449D-AED7-A133BA73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841-6B6E-4E20-AC5F-A74042B8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AE8-DE51-41F7-8C01-FFDE16C2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08B-298B-4955-B9CD-7154F4B5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0BD-2904-49FE-A241-4592078F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658-18FA-43FE-A070-B343D11B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5C6-F10D-47D6-93FA-31964DFB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7DB-1DB1-41D2-B8E3-A2D79439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305-2B99-4A68-B8D0-4B461F72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4AB-6292-4296-929B-8BFF820D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6C0-36E6-492F-8974-5807035B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474EF-FA6D-46F0-B509-36EC522409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