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329136"/>
        <c:axId val="73514241"/>
      </c:barChart>
      <c:catAx>
        <c:axId val="793291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14241"/>
        <c:crosses val="autoZero"/>
        <c:auto val="1"/>
        <c:lblAlgn val="ctr"/>
        <c:lblOffset val="100"/>
        <c:noMultiLvlLbl val="0"/>
      </c:catAx>
      <c:valAx>
        <c:axId val="735142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3291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CACF-FC47-459A-9B3A-AC076DE32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750-0B60-49ED-BD46-0A24306F3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4E68-F54E-4328-900E-26198E353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B953-1C20-4EFB-8784-9CAFC95E1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E0E5-6492-4F6F-BB5A-576F896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CF2-EC1E-460D-A5E5-89E09D3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A2D4-607C-4FBE-B520-E7DC9300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74F2-2263-4C18-A92C-43F5A93DA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533D-0C63-429A-AFA7-945BB688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0AE6-535B-4F69-9F59-BD8E87A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66FB-FCAE-45E5-A2B3-CA3DCB07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256-5185-43C6-A2EB-4F9242C3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0156F1-7576-4F60-A692-308AC901B7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