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59125"/>
        <c:axId val="97480755"/>
      </c:barChart>
      <c:catAx>
        <c:axId val="3335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80755"/>
        <c:crosses val="autoZero"/>
        <c:auto val="1"/>
        <c:lblAlgn val="ctr"/>
        <c:lblOffset val="100"/>
        <c:noMultiLvlLbl val="0"/>
      </c:catAx>
      <c:valAx>
        <c:axId val="97480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5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751-7D0E-415E-81E0-2A22E797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575-F9E7-4FA3-A41C-FF62BB4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2C3-5382-400B-AC60-A50AE717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2AC-AFB4-4B68-B7E8-0DE39623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66C-0763-460B-BD38-EDCE9774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9C3-155C-4579-B194-51CC546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879-A93A-4A6A-935D-E7A57BA2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B12-C079-49C6-98D5-C1DD5317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51F-E43E-4E9B-A182-13927FBE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B26-0079-4E8D-8FCC-0668725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4F4-3437-4821-A17F-B468D4D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770-ED40-4AA8-9CBB-1E49938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C3B35-8B11-4811-9863-EB82A7B9C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