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74479"/>
        <c:axId val="93392694"/>
      </c:barChart>
      <c:catAx>
        <c:axId val="27874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92694"/>
        <c:crosses val="autoZero"/>
        <c:auto val="1"/>
        <c:lblAlgn val="ctr"/>
        <c:lblOffset val="100"/>
        <c:noMultiLvlLbl val="0"/>
      </c:catAx>
      <c:valAx>
        <c:axId val="93392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74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7DA-0748-4569-99C1-A2724F27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51F-77BB-469D-9CFB-2877DFD4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CC1-F3F1-4A05-AD16-9443B6AE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857-3AB7-4665-8673-6965FEA5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305-DB60-4170-8AD7-9FE1E00C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112-6DFE-49CD-8C64-883580B5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62F-5A1C-4063-B419-C42398CA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5BB-B9EA-476A-B3FC-466B5E6B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025-56E1-4822-BC15-D3C0D231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877-26F6-4C08-AC4D-010A240B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214-0249-4B6E-B9FB-F24B99B9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FBD-CD02-472B-BEC6-854B916F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FF2F4-FBC9-4D65-A0BA-2C83177FE7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